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jpeg" ContentType="image/jpeg"/>
  <Override PartName="/ppt/media/image11.wmf" ContentType="image/x-wmf"/>
  <Override PartName="/ppt/media/image9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21.jpeg" ContentType="image/jpeg"/>
  <Override PartName="/ppt/media/image16.png" ContentType="image/png"/>
  <Override PartName="/ppt/media/image20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6.jpeg" ContentType="image/jpeg"/>
  <Override PartName="/ppt/media/image5.wmf" ContentType="image/x-wmf"/>
  <Override PartName="/ppt/media/image10.png" ContentType="image/png"/>
  <Override PartName="/ppt/media/image2.jpeg" ContentType="image/jpeg"/>
  <Override PartName="/ppt/media/image3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dt" idx="19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ftr" idx="20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 type="sldNum" idx="21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27B3A-B9DD-4B8F-93ED-FE782CC07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22D79-1F69-4F0B-9A48-05329963C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DFB2F-4FB7-4259-8AB7-B4A863F3E4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F0DE1-9CA7-4B78-A95F-6B0D6EE150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2E25D-5368-411F-890C-C3D08F124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27B8D-15C6-4D51-9A89-F9B662A8BA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4739E-CCFE-4BB2-8D2F-F616EBC1F0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762120" y="60948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49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oodyear in 2001 identified 9 instructor roles!  Content facilitator, technologist, designer, manager/administrator, process facilitator, advisor/counselor, assessor, research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stems approach to onlin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unselors, enrollment process, orient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ructional design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bject matter expe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assistants (assistance), tech, bookstore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ach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mpus Technology, October 2008 “Just-in-Time Support identifies 8 best practices for providing support to online facul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itutionalize the basics – provide orientation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loaded Course Templa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ke sure faculty aren’t first responders for non-content related ques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st-in-Time Support  in development st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ntoring from experienced online instruct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ink through pedagogy behind the technology tools-wikis, blogs, (why, how, whe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velop the above systems support (instructional tea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gin a COP for facul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INT OUT CHALLENGE AREAS – discussion point – what do you see as challenge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Quality Indicators of Distance Education Identified in the Lit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results of a systematic literature review of 160 articles and twelve boo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haney 2006) as quoted in Chaney, B.H., et al. (2007). Development of an instrument to assess student opinions of the quality of distance education courses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American Journal of Distance Educ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21(3), p. 145-16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ddition, a study completed by the NEA and Blackboard Inc., (Institute for Higher Education Policy study commissioned by NEA and Blackboard) released in 2000, found 24 quality benchmarks for success in internet-based distance education.  Shimp, in an unpublished dissertation completed in December 2007, reviewed 278 articles published in 4 journals from 2000-2006 and found the same benchmarks and 2 additional benchmar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-orientation to distance education courses or pro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er interaction with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eas of Rubric Chico State Rubric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 Learner Support &amp; 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 Online Organization and 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 Instructional Design/Deliv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 Evaluation of Student 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. Innovative Teaching w/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. Use of Student Feedb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also an Instructional Design Tips for Online Learning developed by Joan Van Duzer, Humboldt State University) in conjunction with the Chico State Rub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what point will this no longer just be an alternativ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D8E9-3C9F-481E-9844-DA4EFE0C7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59BF-6708-4AEF-B437-539F31DA9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1C37-4662-468E-A5BA-4EAD8365E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D808-2F67-4BC0-BBBB-1C2736E64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36127-D5DF-4E28-86CA-16971A1C3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82EFB-6502-4DE1-BD97-094F0284D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C8C03-81A2-4F6E-937E-5D91188A8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95FBD-C2EB-403D-84F4-26291EA4B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9DC02-65AF-4091-9E86-6AD6BF3D3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8DC55-9086-47C5-A1CE-F6FBF6C62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D3894-2202-456F-8BC5-C0EE9288E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B9E1-076C-4C66-BEEA-AB2FA1C1F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8450E-A881-40C8-B1F1-0C2638074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DA511-A687-4BDB-84BE-8C85717A5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1F01D-2797-4E63-96F7-C575DCB6B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99870-ADD0-4205-9B8B-E586AB3FC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FACB1-CF78-4D21-9B73-0F7EE5C41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4AB92-D20B-44A0-BD9A-4B17B2241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F9BEC-19B3-4D3B-AA3C-8F9B2A34C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D53F9-4C57-4CBC-BF3C-95CF7485E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5AE47-90BE-42F9-A431-BE7802051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27D82-325D-41C1-A370-13112C081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9E2E-0680-4867-A714-8AF6F9443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DA0A9-A398-4352-BBEF-E7037758B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DA360-91C9-4C13-A91A-222B8496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7B875-7BE9-41C7-AB4D-7355666C2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F5CAB-005F-4482-85AE-6AE3B022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DC11E-3EFD-4C04-80A0-17C7A2674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F573E-8A19-4182-B129-B95D96AC7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14112-DE47-44A0-B2AE-7CF8DFF83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8A719-19E5-4008-9C7D-D9286715C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07E61-75D5-482E-8F7B-E9E0859ED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9C475-4E27-43D7-A8EF-C1588D567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95C1-A7DF-4EE9-AF74-58A97ECBA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AE6A4-0190-40F1-A47F-9F103933B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BCAF6-8EB1-4CB1-8756-4DAF12650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75440-1A43-43F7-9D6C-D1422F682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B2125-ECC8-4679-8141-3AB40001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EE032-B029-4DC4-AC4F-A082CBD9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2BAD5-882F-4E3D-819C-071A0A0D6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62450-62B0-4DBF-8883-A304BDDCC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32F41-768E-47E8-A87A-5901FDE16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5DFDA-C768-4023-8721-AB385D76A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06A7A-BE1E-4DB7-AEAF-CDE563396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A04E-2117-4FB2-A37A-7455B6DE6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F8AC21-BFA7-4D41-BB42-D9A41ED29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C01A4-A050-4C2E-8D8E-2FAA5D8FA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D3F123-B659-49DC-A0BE-E42F88D97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5F2E83-D28E-4046-9F62-5B8A1CFC3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F3A7AA-A864-441A-8039-750DE4882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598679-6775-46BD-A986-3DC296E43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9BCFDC-6E76-46CA-A75C-2710BB19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A37491-6D58-4C6F-8B6A-C600F8CB0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654080-6744-4762-88E4-5F0F290F7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2C7930-D455-4CEF-AB75-4A287BF13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428E-04DD-4423-8F7F-7D1DB3A93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40B3A9-21A9-473A-A306-BD5A88F4F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E9EFAF-18F8-4BC0-B226-A540E11F0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DC8361-CF99-489D-8C81-81F53CA11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CF9936-63B7-4B40-A8C4-11AD8485C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2C18EF-54E0-4508-B1A3-35C7BA373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3B4AAC-5FDA-4CAC-A55B-22FDABF75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477FCE-52B6-45A4-B0C9-344716F1B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4803C9-D54A-4EA1-94CE-9E1174FF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AD129F-14B3-4289-B2EC-6D4944AF1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0D3C1A-932D-4457-A045-CDE3BB99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BC3F-DA0E-4593-99C9-62ED4C467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F3D995-4A07-497E-B926-A2C379D4B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431451-B8C2-44C4-AFC4-EB09E9F43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2E780E-6F2E-4C16-967D-B1D3D7149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771A-0636-4852-9FD0-518EECA47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55BB-BDB1-487C-9E92-7BB35D627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10EB6-0546-4B04-8394-58EF9F18A3D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53914-EB94-4428-A0B2-5A623D7179F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buClr>
                <a:srgbClr val="0000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buClr>
                <a:srgbClr val="0000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6B397-7E2B-4484-8764-46F37EFDD23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6924F-AB3A-4648-AC8B-31446F9CE53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54F21-9986-40CE-8CC6-189A80A618F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2D724-EE5F-4D25-B6AD-971BC08E695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image" Target="../media/image6.jpeg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butlertech.org/btol/" TargetMode="External"/><Relationship Id="rId2" Type="http://schemas.openxmlformats.org/officeDocument/2006/relationships/hyperlink" Target="http://www.butlertech.org/btol/" TargetMode="External"/><Relationship Id="rId3" Type="http://schemas.openxmlformats.org/officeDocument/2006/relationships/hyperlink" Target="http://www.butlertech.org/bto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33.xml"/><Relationship Id="rId3" Type="http://schemas.openxmlformats.org/officeDocument/2006/relationships/image" Target="../media/image19.wmf"/><Relationship Id="rId4" Type="http://schemas.openxmlformats.org/officeDocument/2006/relationships/image" Target="../media/image19.wmf"/><Relationship Id="rId5" Type="http://schemas.openxmlformats.org/officeDocument/2006/relationships/slide" Target="slide36.xml"/><Relationship Id="rId6" Type="http://schemas.openxmlformats.org/officeDocument/2006/relationships/image" Target="../media/image19.wmf"/><Relationship Id="rId7" Type="http://schemas.openxmlformats.org/officeDocument/2006/relationships/slide" Target="slide35.xml"/><Relationship Id="rId8" Type="http://schemas.openxmlformats.org/officeDocument/2006/relationships/image" Target="../media/image20.wmf"/><Relationship Id="rId9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distancelearn.about.com/od/virtualhighschools/a/OnlneHighQ.htm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520" y="5409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Bureau of Labor Statistics</a:t>
            </a: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66"/>
                </a:solidFill>
                <a:latin typeface="Verdana"/>
              </a:rPr>
              <a:t>Note: Data are 2007 annual averages for persons age 25 and over. Earnings are for full-time wage and salary workers. UPDATED APRIL 2008</a:t>
            </a:r>
            <a:br>
              <a:rPr sz="1300"/>
            </a:br>
            <a:br>
              <a:rPr sz="1300"/>
            </a:b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http://www.bls.gov/emp/emptab7.htm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8839440" cy="49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st of University Affiliated Online H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228600" y="12189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end to be expens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tanford’s gifted-student program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$13,000 per year.  Courses range from $495 to $740 each w/additional $50 for materials &amp; shipping per cou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Possible to find schls that charge &lt; $150 per cre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he University of Oklahoma High School costs $1,725 per year ($180 per course) in addition to several f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ch Program O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ech Program will pay for part time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tudents spend ½ day in tech cente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&amp; tech center pays for supplemental academic cour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Comic Sans MS"/>
              </a:rPr>
              <a:t>Erica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3110040"/>
            <a:ext cx="7772400" cy="29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tional Tren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klahomans’ Opinion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National Tr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8991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lorida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Most wide-ranging virtual mandate in the n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State law requires districts to create full-time virtual schools K-1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Michigan: 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Recent requirement that ALL graduates mu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have an online learning experience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(Other state-wide = Illinois &amp; Idah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Minnesota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Full-time virtual K-12, launched in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Elementary = 20% online + plastic tubs of materials @ home</a:t>
            </a: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Washington State &amp; Massachusetts: 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exploring idea of increasing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e-led initiatives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 to state-wid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klaho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http://www.palmbeachpost.com/search/content/local_news/epaper/2008/09/28/a1a_virtual_school_0929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http://www.sbe.wa.gov/documents/OnlineLearningMemo051408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Oklahoma Public Opinion Po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ategic Vision Phone Survey: April 25-27,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200 Oklahoma Registered Vo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dom Selection using All Active Area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1% Female, 49% Male, 78% with K-12 child/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7% Democrats, 40% Republicans, 13%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7% White &amp; 75% w/Family Income +$5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gin of Error: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+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3 percentage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oll Sponsors:  Friedman Foundation &amp;  Oklahoma Council of Public Affai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Other Sponsors include:  The Department of Catholic Education-Archdiocese of Oklahoma City, Americans for Prosperity-Oklahoma, American Legislative Exchange Council, Black Alliance for Educational Options, Center for Education Reform, Connections Academy, Hispanic Council for Reform &amp; Educational Options, &amp; the National Catholic Educational Associ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ccessed on October 10, 2008:  http://www.hcreo.org/files/1097_files_Friedman_OK_Survey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7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30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7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6000"/>
                            </p:stCondLst>
                            <p:childTnLst>
                              <p:par>
                                <p:cTn id="3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30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7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9000"/>
                            </p:stCondLst>
                            <p:childTnLst>
                              <p:par>
                                <p:cTn id="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300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7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3000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7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000"/>
                            </p:stCondLst>
                            <p:childTnLst>
                              <p:par>
                                <p:cTn id="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3000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700" fill="hold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8000"/>
                            </p:stCondLst>
                            <p:childTnLst>
                              <p:par>
                                <p:cTn id="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3000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700" fill="hold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1000"/>
                            </p:stCondLst>
                            <p:childTnLst>
                              <p:par>
                                <p:cTn id="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3000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700" fill="hold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4000"/>
                            </p:stCondLst>
                            <p:childTnLst>
                              <p:par>
                                <p:cTn id="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3000"/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700" fill="hold"/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7000"/>
                            </p:stCondLst>
                            <p:childTnLst>
                              <p:par>
                                <p:cTn id="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3000"/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3000" fill="hold"/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700" fill="hold"/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Oklahomans Respo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s Ar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1" name=""/>
          <p:cNvGraphicFramePr/>
          <p:nvPr/>
        </p:nvGraphicFramePr>
        <p:xfrm>
          <a:off x="2209680" y="-685800"/>
          <a:ext cx="609624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-685800"/>
                    <a:ext cx="609624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" name=""/>
          <p:cNvGraphicFramePr/>
          <p:nvPr/>
        </p:nvGraphicFramePr>
        <p:xfrm>
          <a:off x="0" y="2590920"/>
          <a:ext cx="7010280" cy="218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590920"/>
                    <a:ext cx="701028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5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685880" cy="2362320"/>
          </a:xfrm>
          <a:prstGeom prst="rect">
            <a:avLst/>
          </a:prstGeom>
          <a:ln w="9360">
            <a:solidFill>
              <a:srgbClr val="333300"/>
            </a:solidFill>
            <a:miter/>
          </a:ln>
        </p:spPr>
      </p:pic>
      <p:graphicFrame>
        <p:nvGraphicFramePr>
          <p:cNvPr id="286" name=""/>
          <p:cNvGraphicFramePr/>
          <p:nvPr/>
        </p:nvGraphicFramePr>
        <p:xfrm>
          <a:off x="3505320" y="4451400"/>
          <a:ext cx="5638680" cy="2406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505320" y="4451400"/>
                    <a:ext cx="5638680" cy="24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8" name=""/>
          <p:cNvGraphicFramePr/>
          <p:nvPr/>
        </p:nvGraphicFramePr>
        <p:xfrm>
          <a:off x="1676520" y="3048120"/>
          <a:ext cx="7467480" cy="279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048120"/>
                    <a:ext cx="7467480" cy="27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152280" y="-533520"/>
          <a:ext cx="7720200" cy="329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-533520"/>
                    <a:ext cx="7720200" cy="32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"/>
          <p:cNvSpPr/>
          <p:nvPr/>
        </p:nvSpPr>
        <p:spPr>
          <a:xfrm>
            <a:off x="-13680" y="6143760"/>
            <a:ext cx="591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*Published in April 2007 by the National Center for Educational Stati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3" name=""/>
          <p:cNvGraphicFramePr/>
          <p:nvPr/>
        </p:nvGraphicFramePr>
        <p:xfrm>
          <a:off x="533520" y="4114800"/>
          <a:ext cx="822960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114800"/>
                    <a:ext cx="82296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1014480" y="-142920"/>
          <a:ext cx="7151760" cy="349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14480" y="-142920"/>
                    <a:ext cx="7151760" cy="34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304920" y="0"/>
          <a:ext cx="8618400" cy="32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0"/>
                    <a:ext cx="8618400" cy="32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9" name="" descr=""/>
          <p:cNvPicPr/>
          <p:nvPr/>
        </p:nvPicPr>
        <p:blipFill>
          <a:blip r:embed="rId3"/>
          <a:stretch/>
        </p:blipFill>
        <p:spPr>
          <a:xfrm>
            <a:off x="6724800" y="3200400"/>
            <a:ext cx="2419200" cy="3657600"/>
          </a:xfrm>
          <a:prstGeom prst="rect">
            <a:avLst/>
          </a:prstGeom>
          <a:ln w="2844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1536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line High Schools &amp; the Future of High School Diplo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6840" y="3581280"/>
            <a:ext cx="80773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Carrie Allday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Erica Burns, Betsy Kisling, Stacy Meldrum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Andre Washing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0" name=""/>
          <p:cNvGraphicFramePr/>
          <p:nvPr/>
        </p:nvGraphicFramePr>
        <p:xfrm>
          <a:off x="457200" y="-609480"/>
          <a:ext cx="8381880" cy="317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-609480"/>
                    <a:ext cx="8381880" cy="31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152280" y="2514600"/>
            <a:ext cx="3333960" cy="434340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4"/>
          <a:stretch/>
        </p:blipFill>
        <p:spPr>
          <a:xfrm>
            <a:off x="6321600" y="2590920"/>
            <a:ext cx="2822400" cy="4267080"/>
          </a:xfrm>
          <a:prstGeom prst="rect">
            <a:avLst/>
          </a:prstGeom>
          <a:ln w="2844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1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Oklahoma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0% of respondents are open to Virtual Schools even though 59% stated they had “not that familiar with” or had “never heard of” virtual, cyber, or online schoo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1% are not satisfied with the current public school system.  The figure raises to 51% when excluding the “undecided” respon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OK is lagging in online education possibilit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900 OK Students </a:t>
            </a:r>
            <a:r>
              <a:rPr b="0" i="1" lang="en-US" sz="2800" spc="-1" strike="noStrike">
                <a:solidFill>
                  <a:srgbClr val="ffff66"/>
                </a:solidFill>
                <a:latin typeface="Baskerville Old Face"/>
              </a:rPr>
              <a:t>VS.</a:t>
            </a: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 50,000 Florida Virtual Academy Students completing 90,000 courses in 2007/8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tac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Online Learning in Practi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2" descr=""/>
          <p:cNvPicPr/>
          <p:nvPr/>
        </p:nvPicPr>
        <p:blipFill>
          <a:blip r:embed="rId1"/>
          <a:srcRect l="0" t="22642" r="6249" b="5119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2"/>
          <p:cNvSpPr/>
          <p:nvPr/>
        </p:nvSpPr>
        <p:spPr>
          <a:xfrm>
            <a:off x="0" y="3049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ine Learning in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Butler Tech Online - Hamilton, Oh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line Learning in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ne of the first online high schools in the cou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ffers a variety of options for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Full-time, part-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Offers in conjunction with Academies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butlertech.org/btol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2" descr=""/>
          <p:cNvPicPr/>
          <p:nvPr/>
        </p:nvPicPr>
        <p:blipFill>
          <a:blip r:embed="rId1"/>
          <a:srcRect l="0" t="22642" r="6249" b="2965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4"/>
          <p:cNvSpPr/>
          <p:nvPr/>
        </p:nvSpPr>
        <p:spPr>
          <a:xfrm>
            <a:off x="0" y="3049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ine Learning in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klahoma Virtual High Schools – Oklahoma 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line Learning in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ne of the first online high schools in Oklaho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wned by Advanced Acade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Curriculum delivered in a variety of ways online (lecture, videos, PowerPoi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tudents have a quick feeling of “success” because of frequent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"/>
          <p:cNvPicPr/>
          <p:nvPr/>
        </p:nvPicPr>
        <p:blipFill>
          <a:blip r:embed="rId1"/>
          <a:srcRect l="0" t="22642" r="6249" b="2965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2"/>
          <p:cNvSpPr/>
          <p:nvPr/>
        </p:nvSpPr>
        <p:spPr>
          <a:xfrm>
            <a:off x="0" y="3049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ine Learning in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ri-County Tech Center – Bartlesville, 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line Learning in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ffers online learning through Advanced Acade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Utilized when students can’t fit an academic course in their schedule when enrolled at Tri-Coun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ne lab available to support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ree to student if they complete the cou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Comic Sans MS"/>
              </a:rPr>
              <a:t>Andr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uccess Rate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tructu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Definitions &amp;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National Trends &amp; Oklahoma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nline Learning in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uccess Rates &amp;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aculty Development Quality &amp; Future Foreca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State of Oklahoma Virtual High School Syste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>
            <a:hlinkClick r:id="" action="ppaction://hlinkshowjump?jump=nextslide"/>
          </p:cNvPr>
          <p:cNvSpPr/>
          <p:nvPr/>
        </p:nvSpPr>
        <p:spPr>
          <a:xfrm>
            <a:off x="1981080" y="914400"/>
            <a:ext cx="4648320" cy="838080"/>
          </a:xfrm>
          <a:custGeom>
            <a:avLst/>
            <a:gdLst>
              <a:gd name="textAreaLeft" fmla="*/ 54000 w 4648320"/>
              <a:gd name="textAreaRight" fmla="*/ 4594320 w 4648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119760" h="21600">
                <a:moveTo>
                  <a:pt x="0" y="0"/>
                </a:moveTo>
                <a:lnTo>
                  <a:pt x="119760" y="0"/>
                </a:lnTo>
                <a:lnTo>
                  <a:pt x="119760" y="21600"/>
                </a:lnTo>
                <a:lnTo>
                  <a:pt x="0" y="21600"/>
                </a:lnTo>
                <a:close/>
              </a:path>
              <a:path fill="lightenLess" w="119760" h="21600">
                <a:moveTo>
                  <a:pt x="0" y="0"/>
                </a:moveTo>
                <a:lnTo>
                  <a:pt x="119760" y="0"/>
                </a:lnTo>
                <a:lnTo>
                  <a:pt x="118360" y="1400"/>
                </a:lnTo>
                <a:lnTo>
                  <a:pt x="1400" y="1400"/>
                </a:lnTo>
                <a:close/>
              </a:path>
              <a:path fill="darken" w="119760" h="21600">
                <a:moveTo>
                  <a:pt x="119760" y="0"/>
                </a:moveTo>
                <a:lnTo>
                  <a:pt x="119760" y="21600"/>
                </a:lnTo>
                <a:lnTo>
                  <a:pt x="118360" y="20200"/>
                </a:lnTo>
                <a:lnTo>
                  <a:pt x="118360" y="1400"/>
                </a:lnTo>
                <a:close/>
              </a:path>
              <a:path fill="darkenLess" w="119760" h="21600">
                <a:moveTo>
                  <a:pt x="1197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8360" y="20200"/>
                </a:lnTo>
                <a:close/>
              </a:path>
              <a:path fill="lighten" w="1197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Advanced Academics, In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>
            <a:hlinkClick r:id="rId2" action="ppaction://hlinksldjump"/>
          </p:cNvPr>
          <p:cNvSpPr/>
          <p:nvPr/>
        </p:nvSpPr>
        <p:spPr>
          <a:xfrm>
            <a:off x="2514600" y="2057400"/>
            <a:ext cx="3657600" cy="685800"/>
          </a:xfrm>
          <a:custGeom>
            <a:avLst/>
            <a:gdLst>
              <a:gd name="textAreaLeft" fmla="*/ 44280 w 3657600"/>
              <a:gd name="textAreaRight" fmla="*/ 3613320 w 3657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15151" h="21600">
                <a:moveTo>
                  <a:pt x="0" y="0"/>
                </a:moveTo>
                <a:lnTo>
                  <a:pt x="115151" y="0"/>
                </a:lnTo>
                <a:lnTo>
                  <a:pt x="115151" y="21600"/>
                </a:lnTo>
                <a:lnTo>
                  <a:pt x="0" y="21600"/>
                </a:lnTo>
                <a:close/>
              </a:path>
              <a:path fill="lightenLess" w="115151" h="21600">
                <a:moveTo>
                  <a:pt x="0" y="0"/>
                </a:moveTo>
                <a:lnTo>
                  <a:pt x="115151" y="0"/>
                </a:lnTo>
                <a:lnTo>
                  <a:pt x="113751" y="1400"/>
                </a:lnTo>
                <a:lnTo>
                  <a:pt x="1400" y="1400"/>
                </a:lnTo>
                <a:close/>
              </a:path>
              <a:path fill="darken" w="115151" h="21600">
                <a:moveTo>
                  <a:pt x="115151" y="0"/>
                </a:moveTo>
                <a:lnTo>
                  <a:pt x="115151" y="21600"/>
                </a:lnTo>
                <a:lnTo>
                  <a:pt x="113751" y="20200"/>
                </a:lnTo>
                <a:lnTo>
                  <a:pt x="113751" y="1400"/>
                </a:lnTo>
                <a:close/>
              </a:path>
              <a:path fill="darkenLess" w="115151" h="21600">
                <a:moveTo>
                  <a:pt x="1151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751" y="20200"/>
                </a:lnTo>
                <a:close/>
              </a:path>
              <a:path fill="lighten" w="1151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High Scho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rastruc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676520" y="3200400"/>
            <a:ext cx="1523880" cy="533520"/>
          </a:xfrm>
          <a:custGeom>
            <a:avLst/>
            <a:gdLst>
              <a:gd name="textAreaLeft" fmla="*/ 34560 w 1523880"/>
              <a:gd name="textAreaRight" fmla="*/ 1489320 w 15238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1669" h="21600">
                <a:moveTo>
                  <a:pt x="0" y="0"/>
                </a:moveTo>
                <a:lnTo>
                  <a:pt x="61669" y="0"/>
                </a:lnTo>
                <a:lnTo>
                  <a:pt x="61669" y="21600"/>
                </a:lnTo>
                <a:lnTo>
                  <a:pt x="0" y="21600"/>
                </a:lnTo>
                <a:close/>
              </a:path>
              <a:path fill="lightenLess" w="61669" h="21600">
                <a:moveTo>
                  <a:pt x="0" y="0"/>
                </a:moveTo>
                <a:lnTo>
                  <a:pt x="61669" y="0"/>
                </a:lnTo>
                <a:lnTo>
                  <a:pt x="60269" y="1400"/>
                </a:lnTo>
                <a:lnTo>
                  <a:pt x="1400" y="1400"/>
                </a:lnTo>
                <a:close/>
              </a:path>
              <a:path fill="darken" w="61669" h="21600">
                <a:moveTo>
                  <a:pt x="61669" y="0"/>
                </a:moveTo>
                <a:lnTo>
                  <a:pt x="61669" y="21600"/>
                </a:lnTo>
                <a:lnTo>
                  <a:pt x="60269" y="20200"/>
                </a:lnTo>
                <a:lnTo>
                  <a:pt x="60269" y="1400"/>
                </a:lnTo>
                <a:close/>
              </a:path>
              <a:path fill="darkenLess" w="61669" h="21600">
                <a:moveTo>
                  <a:pt x="61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69" y="20200"/>
                </a:lnTo>
                <a:close/>
              </a:path>
              <a:path fill="lighten" w="61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klahoma 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676520" y="3809880"/>
            <a:ext cx="1523880" cy="533520"/>
          </a:xfrm>
          <a:custGeom>
            <a:avLst/>
            <a:gdLst>
              <a:gd name="textAreaLeft" fmla="*/ 34560 w 1523880"/>
              <a:gd name="textAreaRight" fmla="*/ 1489320 w 15238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1669" h="21600">
                <a:moveTo>
                  <a:pt x="0" y="0"/>
                </a:moveTo>
                <a:lnTo>
                  <a:pt x="61669" y="0"/>
                </a:lnTo>
                <a:lnTo>
                  <a:pt x="61669" y="21600"/>
                </a:lnTo>
                <a:lnTo>
                  <a:pt x="0" y="21600"/>
                </a:lnTo>
                <a:close/>
              </a:path>
              <a:path fill="lightenLess" w="61669" h="21600">
                <a:moveTo>
                  <a:pt x="0" y="0"/>
                </a:moveTo>
                <a:lnTo>
                  <a:pt x="61669" y="0"/>
                </a:lnTo>
                <a:lnTo>
                  <a:pt x="60269" y="1400"/>
                </a:lnTo>
                <a:lnTo>
                  <a:pt x="1400" y="1400"/>
                </a:lnTo>
                <a:close/>
              </a:path>
              <a:path fill="darken" w="61669" h="21600">
                <a:moveTo>
                  <a:pt x="61669" y="0"/>
                </a:moveTo>
                <a:lnTo>
                  <a:pt x="61669" y="21600"/>
                </a:lnTo>
                <a:lnTo>
                  <a:pt x="60269" y="20200"/>
                </a:lnTo>
                <a:lnTo>
                  <a:pt x="60269" y="1400"/>
                </a:lnTo>
                <a:close/>
              </a:path>
              <a:path fill="darkenLess" w="61669" h="21600">
                <a:moveTo>
                  <a:pt x="61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69" y="20200"/>
                </a:lnTo>
                <a:close/>
              </a:path>
              <a:path fill="lighten" w="61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um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676520" y="4495680"/>
            <a:ext cx="1523880" cy="533520"/>
          </a:xfrm>
          <a:custGeom>
            <a:avLst/>
            <a:gdLst>
              <a:gd name="textAreaLeft" fmla="*/ 34560 w 1523880"/>
              <a:gd name="textAreaRight" fmla="*/ 1489320 w 15238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1669" h="21600">
                <a:moveTo>
                  <a:pt x="0" y="0"/>
                </a:moveTo>
                <a:lnTo>
                  <a:pt x="61669" y="0"/>
                </a:lnTo>
                <a:lnTo>
                  <a:pt x="61669" y="21600"/>
                </a:lnTo>
                <a:lnTo>
                  <a:pt x="0" y="21600"/>
                </a:lnTo>
                <a:close/>
              </a:path>
              <a:path fill="lightenLess" w="61669" h="21600">
                <a:moveTo>
                  <a:pt x="0" y="0"/>
                </a:moveTo>
                <a:lnTo>
                  <a:pt x="61669" y="0"/>
                </a:lnTo>
                <a:lnTo>
                  <a:pt x="60269" y="1400"/>
                </a:lnTo>
                <a:lnTo>
                  <a:pt x="1400" y="1400"/>
                </a:lnTo>
                <a:close/>
              </a:path>
              <a:path fill="darken" w="61669" h="21600">
                <a:moveTo>
                  <a:pt x="61669" y="0"/>
                </a:moveTo>
                <a:lnTo>
                  <a:pt x="61669" y="21600"/>
                </a:lnTo>
                <a:lnTo>
                  <a:pt x="60269" y="20200"/>
                </a:lnTo>
                <a:lnTo>
                  <a:pt x="60269" y="1400"/>
                </a:lnTo>
                <a:close/>
              </a:path>
              <a:path fill="darkenLess" w="61669" h="21600">
                <a:moveTo>
                  <a:pt x="61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69" y="20200"/>
                </a:lnTo>
                <a:close/>
              </a:path>
              <a:path fill="lighten" w="61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ttsbu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676520" y="5181480"/>
            <a:ext cx="1523880" cy="533520"/>
          </a:xfrm>
          <a:custGeom>
            <a:avLst/>
            <a:gdLst>
              <a:gd name="textAreaLeft" fmla="*/ 34560 w 1523880"/>
              <a:gd name="textAreaRight" fmla="*/ 1489320 w 15238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1669" h="21600">
                <a:moveTo>
                  <a:pt x="0" y="0"/>
                </a:moveTo>
                <a:lnTo>
                  <a:pt x="61669" y="0"/>
                </a:lnTo>
                <a:lnTo>
                  <a:pt x="61669" y="21600"/>
                </a:lnTo>
                <a:lnTo>
                  <a:pt x="0" y="21600"/>
                </a:lnTo>
                <a:close/>
              </a:path>
              <a:path fill="lightenLess" w="61669" h="21600">
                <a:moveTo>
                  <a:pt x="0" y="0"/>
                </a:moveTo>
                <a:lnTo>
                  <a:pt x="61669" y="0"/>
                </a:lnTo>
                <a:lnTo>
                  <a:pt x="60269" y="1400"/>
                </a:lnTo>
                <a:lnTo>
                  <a:pt x="1400" y="1400"/>
                </a:lnTo>
                <a:close/>
              </a:path>
              <a:path fill="darken" w="61669" h="21600">
                <a:moveTo>
                  <a:pt x="61669" y="0"/>
                </a:moveTo>
                <a:lnTo>
                  <a:pt x="61669" y="21600"/>
                </a:lnTo>
                <a:lnTo>
                  <a:pt x="60269" y="20200"/>
                </a:lnTo>
                <a:lnTo>
                  <a:pt x="60269" y="1400"/>
                </a:lnTo>
                <a:close/>
              </a:path>
              <a:path fill="darkenLess" w="61669" h="21600">
                <a:moveTo>
                  <a:pt x="61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69" y="20200"/>
                </a:lnTo>
                <a:close/>
              </a:path>
              <a:path fill="lighten" w="61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d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676520" y="5867280"/>
            <a:ext cx="1523880" cy="533520"/>
          </a:xfrm>
          <a:custGeom>
            <a:avLst/>
            <a:gdLst>
              <a:gd name="textAreaLeft" fmla="*/ 34560 w 1523880"/>
              <a:gd name="textAreaRight" fmla="*/ 1489320 w 15238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1669" h="21600">
                <a:moveTo>
                  <a:pt x="0" y="0"/>
                </a:moveTo>
                <a:lnTo>
                  <a:pt x="61669" y="0"/>
                </a:lnTo>
                <a:lnTo>
                  <a:pt x="61669" y="21600"/>
                </a:lnTo>
                <a:lnTo>
                  <a:pt x="0" y="21600"/>
                </a:lnTo>
                <a:close/>
              </a:path>
              <a:path fill="lightenLess" w="61669" h="21600">
                <a:moveTo>
                  <a:pt x="0" y="0"/>
                </a:moveTo>
                <a:lnTo>
                  <a:pt x="61669" y="0"/>
                </a:lnTo>
                <a:lnTo>
                  <a:pt x="60269" y="1400"/>
                </a:lnTo>
                <a:lnTo>
                  <a:pt x="1400" y="1400"/>
                </a:lnTo>
                <a:close/>
              </a:path>
              <a:path fill="darken" w="61669" h="21600">
                <a:moveTo>
                  <a:pt x="61669" y="0"/>
                </a:moveTo>
                <a:lnTo>
                  <a:pt x="61669" y="21600"/>
                </a:lnTo>
                <a:lnTo>
                  <a:pt x="60269" y="20200"/>
                </a:lnTo>
                <a:lnTo>
                  <a:pt x="60269" y="1400"/>
                </a:lnTo>
                <a:close/>
              </a:path>
              <a:path fill="darkenLess" w="61669" h="21600">
                <a:moveTo>
                  <a:pt x="61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69" y="20200"/>
                </a:lnTo>
                <a:close/>
              </a:path>
              <a:path fill="lighten" w="61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aho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28600" y="220968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 School District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304560" y="2590920"/>
            <a:ext cx="1904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209680" y="25909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343400" y="17524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3"/>
          <a:stretch/>
        </p:blipFill>
        <p:spPr>
          <a:xfrm>
            <a:off x="2743200" y="2133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4"/>
          <a:stretch/>
        </p:blipFill>
        <p:spPr>
          <a:xfrm>
            <a:off x="5486400" y="21337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5334120" y="28954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5562720" y="281916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800600" y="3962520"/>
            <a:ext cx="1447920" cy="132876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6705720" y="4343400"/>
            <a:ext cx="20574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rtual High Sch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9-12 gra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6248520" y="47242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3276720" y="35053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3276720" y="6172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733920" y="3505320"/>
            <a:ext cx="0" cy="2666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3733560" y="464832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809880" y="3886200"/>
            <a:ext cx="1067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 of Instruction Ex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3276720" y="40384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3276720" y="47242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3276720" y="54100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114800"/>
            <a:ext cx="874440" cy="84780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1523880" y="3276720"/>
            <a:ext cx="0" cy="2971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1294920" y="46483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80880" y="3124080"/>
            <a:ext cx="838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gh School Dipl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62120" y="37339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1523880" y="601992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523880" y="403848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1523880" y="472428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1523880" y="541008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1523880" y="342900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172200" y="31240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gh Speed Inter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5791320" y="33526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Advanced Academics, Inc</a:t>
            </a:r>
            <a:br>
              <a:rPr sz="4000"/>
            </a:b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Online learning simplifie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anced Academics, Inc., a subsidiary of DeVry Inc. (NYSE:D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porate office in OKC (Bricktow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mpany was founded by educators who have a passion for student success. Since its inception in 200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anced Academics has implemented online learning programs in schools and districts across 30 sta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>
            <a:hlinkClick r:id="" action="ppaction://hlinkshowjump?jump=nextslide"/>
          </p:cNvPr>
          <p:cNvSpPr/>
          <p:nvPr/>
        </p:nvSpPr>
        <p:spPr>
          <a:xfrm>
            <a:off x="7467480" y="556272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3794"/>
                </a:moveTo>
                <a:lnTo>
                  <a:pt x="17813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2002, the company received regional accreditation as a diploma-granting institution from the North Central Association Commission on Accreditation (N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national accreditation from the Commission on International and Trans-Regional Accreditation (CITA). We gained these accreditations in order to validate our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Advanced Academics, Inc</a:t>
            </a:r>
            <a:br>
              <a:rPr sz="4000"/>
            </a:b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Online learning simplifie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>
            <a:hlinkClick r:id="rId1" action="ppaction://hlinksldjump"/>
          </p:cNvPr>
          <p:cNvSpPr/>
          <p:nvPr/>
        </p:nvSpPr>
        <p:spPr>
          <a:xfrm>
            <a:off x="7772400" y="57913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Infrastructure </a:t>
            </a:r>
            <a:br>
              <a:rPr sz="4000"/>
            </a:b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(co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,000,000 (Initial start up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, 500,000 (Annually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33520" y="3352680"/>
            <a:ext cx="8229600" cy="0"/>
          </a:xfrm>
          <a:prstGeom prst="line">
            <a:avLst/>
          </a:prstGeom>
          <a:ln w="38160">
            <a:solidFill>
              <a:srgbClr val="ffff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09480" y="3505320"/>
            <a:ext cx="82296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Arial"/>
                <a:ea typeface="Osaka"/>
              </a:rPr>
              <a:t>(Revenue) </a:t>
            </a:r>
            <a:r>
              <a:rPr b="0" i="1" lang="en-US" sz="1600" spc="-1" strike="noStrike">
                <a:solidFill>
                  <a:srgbClr val="ffff66"/>
                </a:solidFill>
                <a:latin typeface="Arial"/>
                <a:ea typeface="Osaka"/>
              </a:rPr>
              <a:t>Oklahoma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Osak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Osaka"/>
              </a:rPr>
              <a:t>4,500 per-student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Osaka"/>
              </a:rPr>
              <a:t>(average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Osak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Osaka"/>
              </a:rPr>
              <a:t>@ 945 stud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Osaka"/>
              </a:rPr>
              <a:t>= 4,252,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>
            <a:hlinkClick r:id="rId1" action="ppaction://hlinksldjump"/>
          </p:cNvPr>
          <p:cNvSpPr/>
          <p:nvPr/>
        </p:nvSpPr>
        <p:spPr>
          <a:xfrm>
            <a:off x="7696080" y="60199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gisl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e of Oklahoma Dept. of 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hool Bo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vanced Academic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if full ti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752480" y="685800"/>
            <a:ext cx="0" cy="5105520"/>
          </a:xfrm>
          <a:prstGeom prst="line">
            <a:avLst/>
          </a:prstGeom>
          <a:ln w="38160">
            <a:solidFill>
              <a:srgbClr val="ffff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391520" y="685800"/>
            <a:ext cx="0" cy="5105520"/>
          </a:xfrm>
          <a:prstGeom prst="line">
            <a:avLst/>
          </a:prstGeom>
          <a:ln w="38160">
            <a:solidFill>
              <a:srgbClr val="ffff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419720" y="5257800"/>
            <a:ext cx="30456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4419720" y="5257800"/>
            <a:ext cx="30456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>
            <a:hlinkClick r:id="rId1" action="ppaction://hlinksldjump"/>
          </p:cNvPr>
          <p:cNvSpPr/>
          <p:nvPr/>
        </p:nvSpPr>
        <p:spPr>
          <a:xfrm>
            <a:off x="800100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Retention Rates / Success R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Nationally </a:t>
            </a: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(week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courses 889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enrolled in courses 74% (6,58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active 62% (5,51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Oklahoma </a:t>
            </a: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(week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Students 9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enrolled courses 29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% of enrolled courses that are active 8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% of active courses on track 5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% of enrolled courses completed 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>
            <a:hlinkClick r:id="rId1" action="ppaction://hlinksldjump"/>
          </p:cNvPr>
          <p:cNvSpPr/>
          <p:nvPr/>
        </p:nvSpPr>
        <p:spPr>
          <a:xfrm>
            <a:off x="8077320" y="594360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10800" y="3844"/>
                </a:moveTo>
                <a:lnTo>
                  <a:pt x="13376" y="6455"/>
                </a:lnTo>
                <a:lnTo>
                  <a:pt x="13376" y="4715"/>
                </a:lnTo>
                <a:lnTo>
                  <a:pt x="15152" y="4715"/>
                </a:lnTo>
                <a:lnTo>
                  <a:pt x="15152" y="8231"/>
                </a:lnTo>
                <a:lnTo>
                  <a:pt x="17763" y="10807"/>
                </a:lnTo>
                <a:lnTo>
                  <a:pt x="16109" y="10807"/>
                </a:lnTo>
                <a:lnTo>
                  <a:pt x="16109" y="17997"/>
                </a:lnTo>
                <a:lnTo>
                  <a:pt x="5491" y="17997"/>
                </a:lnTo>
                <a:lnTo>
                  <a:pt x="5491" y="10807"/>
                </a:lnTo>
                <a:lnTo>
                  <a:pt x="3837" y="10807"/>
                </a:lnTo>
                <a:close/>
              </a:path>
              <a:path fill="darkenLess" w="21600" h="21615">
                <a:moveTo>
                  <a:pt x="13376" y="6455"/>
                </a:moveTo>
                <a:lnTo>
                  <a:pt x="13376" y="4715"/>
                </a:lnTo>
                <a:lnTo>
                  <a:pt x="15152" y="4715"/>
                </a:lnTo>
                <a:lnTo>
                  <a:pt x="15152" y="8231"/>
                </a:lnTo>
                <a:close/>
              </a:path>
              <a:path fill="darkenLess" w="21600" h="21615">
                <a:moveTo>
                  <a:pt x="9877" y="14306"/>
                </a:moveTo>
                <a:lnTo>
                  <a:pt x="11723" y="14306"/>
                </a:lnTo>
                <a:lnTo>
                  <a:pt x="11723" y="17997"/>
                </a:lnTo>
                <a:lnTo>
                  <a:pt x="16109" y="17997"/>
                </a:lnTo>
                <a:lnTo>
                  <a:pt x="16109" y="10807"/>
                </a:lnTo>
                <a:lnTo>
                  <a:pt x="5491" y="10807"/>
                </a:lnTo>
                <a:lnTo>
                  <a:pt x="5491" y="17997"/>
                </a:lnTo>
                <a:lnTo>
                  <a:pt x="9877" y="1799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Eligi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PA 2.00 (m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 IEP'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ood EOI (End of Instruction) s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in OKC public schools (must be a OKC high school drop out or ask for an open transf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line high school diploma will be the same as traditional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y take year book picture, attend prom, walk at graduation etc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762120" y="3886200"/>
            <a:ext cx="7772400" cy="0"/>
          </a:xfrm>
          <a:prstGeom prst="line">
            <a:avLst/>
          </a:prstGeom>
          <a:ln w="28440">
            <a:solidFill>
              <a:srgbClr val="ffff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>
            <a:hlinkClick r:id="rId1" action="ppaction://hlinksldjump"/>
          </p:cNvPr>
          <p:cNvSpPr/>
          <p:nvPr/>
        </p:nvSpPr>
        <p:spPr>
          <a:xfrm>
            <a:off x="800100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Bets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Faculty Development Quality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Future Forecas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aculty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10480" cy="41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Online instructor’s role requires a paradigm shift in perceptions o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askerville Old Face"/>
              </a:rPr>
              <a:t>instructional time &amp; space</a:t>
            </a:r>
            <a:r>
              <a:rPr b="1" lang="en-US" sz="2800" spc="-1" strike="noStrike">
                <a:solidFill>
                  <a:srgbClr val="ffffff"/>
                </a:solidFill>
                <a:latin typeface="Baskerville Old Face"/>
              </a:rPr>
              <a:t>,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ff66"/>
                </a:solidFill>
                <a:uFillTx/>
                <a:latin typeface="Baskerville Old Face"/>
              </a:rPr>
              <a:t>virtual management techniques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, &amp;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askerville Old Face"/>
              </a:rPr>
              <a:t>ways of engaging students through virtual communications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.”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(Easton, 2003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Systems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Just-in-Time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Quality Indicators of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stance Edu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Based on results of a systematic literature review of 160 articles and twelve book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240" y="2286000"/>
            <a:ext cx="883908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tudent-teacher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Prompt feedback from instru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Program evaluation &amp;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lear analysis of aud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Documented technology plan to ensure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Institutional support &amp; institutional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ourse structure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1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1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503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4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7505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9506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arri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3110040"/>
            <a:ext cx="7772400" cy="29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Defini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Cos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lity Indicators of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tance Education (cont’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ctive learning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Respect diverse ways of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Faculty suppor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trong rationale for distance education that correlates to the mission of the in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ppropriate tools and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Reliability of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Implementation of guidelines for course development and review of instructional materials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Chaney 2006) as quoted in Chaney, B.H., et al. (2007). Development of an instrument to assess student opinions of the quality of distance education courses. 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The American Journal of Distance Education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, 21(3), p. 145-16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3002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4003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4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1505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2506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7507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asuring Qu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Quality 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ssess with a Rub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alifornia State University, Chico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 User’s Guide to Online Cour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www.nea.org/technology/distanced/high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How to Choose an Online High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handout retrieved fr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distancelearn.about.com/od/virtualhighschools/a/OnlneHighQ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the bottom lin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“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It has more to do with whether this is a good way for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) student to learn. To me, I look at online learning not as something that’s going to be the savior of education,” she said. “This is one alternative.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Angela Specketer, Principal of Minnesota Virtual Acade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(full-time virtual started in 200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uture Foreca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hat do you see as the challeng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52280" y="1698480"/>
            <a:ext cx="8991720" cy="35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7604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  <a:ea typeface="Osaka"/>
              </a:rPr>
              <a:t>Meeting individual learner’s needs &amp;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diverse learning styles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  <a:ea typeface="Osak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IEPs – truly customer foc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ctive participation, engagement, mo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ppropriate use of tools, technologies, methods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Oklahoma education poli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What el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Definitions &amp;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National Trends &amp; Oklahoma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nline Learning in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uccess Rates &amp;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aculty Development Quality &amp; Future Foreca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828800" y="556272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r Conclusi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327636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line Learning is He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 It is Here to Sta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o…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"/>
          <p:cNvSpPr/>
          <p:nvPr/>
        </p:nvSpPr>
        <p:spPr>
          <a:xfrm>
            <a:off x="4952880" y="4267080"/>
            <a:ext cx="365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Get Over Yourself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2"/>
          <a:srcRect l="15835" t="0" r="8163" b="14006"/>
          <a:stretch/>
        </p:blipFill>
        <p:spPr>
          <a:xfrm>
            <a:off x="1600200" y="3200400"/>
            <a:ext cx="2347920" cy="3276720"/>
          </a:xfrm>
          <a:prstGeom prst="rect">
            <a:avLst/>
          </a:prstGeom>
          <a:ln w="1908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</p:pic>
      <p:sp>
        <p:nvSpPr>
          <p:cNvPr id="407" name=""/>
          <p:cNvSpPr/>
          <p:nvPr/>
        </p:nvSpPr>
        <p:spPr>
          <a:xfrm>
            <a:off x="304920" y="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clus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1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7100"/>
                            </p:stCondLst>
                            <p:childTnLst>
                              <p:par>
                                <p:cTn id="22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4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4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8100"/>
                            </p:stCondLst>
                            <p:childTnLst>
                              <p:par>
                                <p:cTn id="23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100"/>
                            </p:stCondLst>
                            <p:childTnLst>
                              <p:par>
                                <p:cTn id="25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3" dur="2000" fill="hold"/>
                                        <p:tgtEl>
                                          <p:spTgt spid="4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udience Respons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2438280" y="3044520"/>
            <a:ext cx="4572000" cy="201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Questions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mments 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Concerns #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25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25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25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625"/>
                            </p:stCondLst>
                            <p:childTnLst>
                              <p:par>
                                <p:cTn id="2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6" dur="250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7" dur="250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250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125"/>
                            </p:stCondLst>
                            <p:childTnLst>
                              <p:par>
                                <p:cTn id="2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2" dur="25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3" dur="25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25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are Online High School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09120" y="1980720"/>
            <a:ext cx="75438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Public or private schools that allow students to work with their curriculum &amp; teachers using the Internet, rather than in a traditional classroom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 option for students wh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Need to stay home for health rea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Desire to work at their own 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ind themselves unable to concentrate on their work in the traditional se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Need to schedule their learning around a care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line High School Edu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ypes of Online High Schoo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1- Public/Char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2- Priv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3- University Affilia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st of Public Online HS in 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52280" y="13712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urrently OK has 900 students on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#s continue to increase based on how many students the 6 partnering schls will t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Free for full time students (6 courses/semes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Part Time Students pay $400 per cou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Generally provide curriculum &amp; other materials at no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ome offer computer leases &amp; pay for student internet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st of Private Online H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228600" y="16002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No Private online in 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end to be expen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(possible to find non-profit progra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ome are as much as $16,000 for a 4-year diploma progr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Possible to find low-cost alternativ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like Penn Foster complete diplom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approx. $1,29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1T14:35:21Z</dcterms:created>
  <dc:creator>Erica Burns</dc:creator>
  <dc:description/>
  <dc:language>en-US</dc:language>
  <cp:lastModifiedBy>Andre Washington</cp:lastModifiedBy>
  <dcterms:modified xsi:type="dcterms:W3CDTF">2008-10-20T23:41:06Z</dcterms:modified>
  <cp:revision>111</cp:revision>
  <dc:subject/>
  <dc:title>Online High Schools &amp; the Future of High School Diplomas</dc:title>
</cp:coreProperties>
</file>